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6A79-CF9D-45ED-AAAC-91E78A24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E2E1-FD14-4141-947C-FB4DA203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325F-926D-48E1-911E-D6A86456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6B55-0CB4-4BDD-AEE6-3D1859590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B2281-1287-411C-B327-58BC0802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C026B-08CF-46A2-BFD0-AF364696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14883-56AC-483E-A6DB-43C6DF72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CB7DA-D095-4360-9A6D-D647D197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F7515-A0D2-48E5-9D30-0C508D90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1A0B7-E60A-4F4A-B131-62FE9F9B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709E0-B061-4818-A2D3-46325A61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7989-BBFB-4F44-93A0-61A72A10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AE59C-28E0-4055-AB1E-08BA1FDA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18495-E853-46D7-9885-A8C42EFD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9D4A4-69CD-4184-9165-F9F3C60C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16F12-1AE4-4B24-84AE-A1E42383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51E01-5FC2-4C5E-9C50-39EE7C60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7EF3-B1F9-4F27-908C-1695B420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A51B-60EE-4684-8D19-33CBDF4E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65B2-9189-44FE-8007-BB80336C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9A86-FA63-486F-B807-078D2241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1027-06F6-49C0-AF6A-8BC908BA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0702-696B-4B99-B41C-BDAE89E1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0E3F-4D26-4923-8EEF-53E4B869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5687-243B-44DA-8CB0-DE749B86B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0BD9-B457-4815-B9FF-7AD3D90F53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800"/>
                </a:solidFill>
                <a:latin typeface="Tahoma"/>
              </a:rPr>
              <a:t>Albrecht Dur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3526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Bethany Daugher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bles"/>
          <p:cNvPicPr/>
          <p:nvPr/>
        </p:nvPicPr>
        <p:blipFill>
          <a:blip r:embed="rId1"/>
          <a:stretch/>
        </p:blipFill>
        <p:spPr>
          <a:xfrm>
            <a:off x="152280" y="1517760"/>
            <a:ext cx="4184640" cy="5084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f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rn May 21, 147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ed April 6, 152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w up with 17 siblin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w up in German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came famous by selling his self portrait to a patron Frederick the Wi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nted to learn all that he could in the arts and mathematic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st Famous Wor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lencolia I 15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MelecoliaI"/>
          <p:cNvPicPr/>
          <p:nvPr/>
        </p:nvPicPr>
        <p:blipFill>
          <a:blip r:embed="rId1"/>
          <a:stretch/>
        </p:blipFill>
        <p:spPr>
          <a:xfrm>
            <a:off x="685800" y="1295280"/>
            <a:ext cx="4189320" cy="5562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ther Work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ight, Death, and the Devil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our Horsemen of the Apocalyps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aying Hand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knight"/>
          <p:cNvPicPr/>
          <p:nvPr/>
        </p:nvPicPr>
        <p:blipFill>
          <a:blip r:embed="rId1"/>
          <a:stretch/>
        </p:blipFill>
        <p:spPr>
          <a:xfrm>
            <a:off x="4419720" y="2523960"/>
            <a:ext cx="3333600" cy="4334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apo"/>
          <p:cNvPicPr/>
          <p:nvPr/>
        </p:nvPicPr>
        <p:blipFill>
          <a:blip r:embed="rId2"/>
          <a:stretch/>
        </p:blipFill>
        <p:spPr>
          <a:xfrm>
            <a:off x="2666880" y="533520"/>
            <a:ext cx="4127760" cy="5829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pary"/>
          <p:cNvPicPr/>
          <p:nvPr/>
        </p:nvPicPr>
        <p:blipFill>
          <a:blip r:embed="rId3"/>
          <a:stretch/>
        </p:blipFill>
        <p:spPr>
          <a:xfrm>
            <a:off x="4191120" y="457200"/>
            <a:ext cx="4056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mpact on Renaiss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brecht Durer produced woodcuts and engravings that became influential. He also painted using realism and showing his subjects as their natural selv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also merged the Northern European with the Italian style, which affected the development all over Europ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01:59:48Z</dcterms:created>
  <dc:creator>Kai</dc:creator>
  <dc:description/>
  <dc:language>en-US</dc:language>
  <cp:lastModifiedBy>admin</cp:lastModifiedBy>
  <dcterms:modified xsi:type="dcterms:W3CDTF">2011-04-20T14:37:23Z</dcterms:modified>
  <cp:revision>5</cp:revision>
  <dc:subject/>
  <dc:title>Albrecht Durer</dc:title>
</cp:coreProperties>
</file>